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MERA.WAV" ContentType="audio/x-wav"/>
  <Override PartName="/ppt/media/highchime.wav" ContentType="audio/x-wav"/>
  <Override PartName="/ppt/media/image19.wmf" ContentType="image/x-wmf"/>
  <Override PartName="/ppt/media/image16.wmf" ContentType="image/x-wmf"/>
  <Override PartName="/ppt/media/image15.wmf" ContentType="image/x-wmf"/>
  <Override PartName="/ppt/media/jetflyby2.wav" ContentType="audio/x-wav"/>
  <Override PartName="/ppt/media/image13.wmf" ContentType="image/x-wmf"/>
  <Override PartName="/ppt/media/EXPLODE.WAV" ContentType="audio/x-wav"/>
  <Override PartName="/ppt/media/image11.wmf" ContentType="image/x-wmf"/>
  <Override PartName="/ppt/media/image9.wmf" ContentType="image/x-wmf"/>
  <Override PartName="/ppt/media/image8.wmf" ContentType="image/x-wmf"/>
  <Override PartName="/ppt/media/bserie06.wav" ContentType="audio/x-wav"/>
  <Override PartName="/ppt/media/image6.wmf" ContentType="image/x-wmf"/>
  <Override PartName="/ppt/media/LASER.WAV" ContentType="audio/x-wav"/>
  <Override PartName="/ppt/media/image14.wmf" ContentType="image/x-wmf"/>
  <Override PartName="/ppt/media/zapbig0g.wav" ContentType="audio/x-wav"/>
  <Override PartName="/ppt/media/image4.png" ContentType="image/png"/>
  <Override PartName="/ppt/media/image12.wmf" ContentType="image/x-wmf"/>
  <Override PartName="/ppt/media/CHIMES.WAV" ContentType="audio/x-wav"/>
  <Override PartName="/ppt/media/jetflyby.wav" ContentType="audio/x-wav"/>
  <Override PartName="/ppt/media/boinng04.wav" ContentType="audio/x-wav"/>
  <Override PartName="/ppt/media/image18.wmf" ContentType="image/x-wmf"/>
  <Override PartName="/ppt/media/hzipup01.wav" ContentType="audio/x-wav"/>
  <Override PartName="/ppt/media/policesiren.wav" ContentType="audio/x-wav"/>
  <Override PartName="/ppt/media/planeflyby.wav" ContentType="audio/x-wav"/>
  <Override PartName="/ppt/media/TYPE.WAV" ContentType="audio/x-wav"/>
  <Override PartName="/ppt/media/image5.wmf" ContentType="image/x-wmf"/>
  <Override PartName="/ppt/media/zipup202.wav" ContentType="audio/x-wav"/>
  <Override PartName="/ppt/media/image10.wmf" ContentType="image/x-wmf"/>
  <Override PartName="/ppt/media/zipdn102.wav" ContentType="audio/x-wav"/>
  <Override PartName="/ppt/media/Baseball%20critical%20stop.wav" ContentType="audio/x-wav"/>
  <Override PartName="/ppt/media/cool%20man.wav" ContentType="audio/x-wav"/>
  <Override PartName="/ppt/media/image3.wmf" ContentType="image/x-wmf"/>
  <Override PartName="/ppt/media/RICOCHET.WAV" ContentType="audio/x-wav"/>
  <Override PartName="/ppt/media/image2.wmf" ContentType="image/x-wmf"/>
  <Override PartName="/ppt/media/WHOOSH.WAV" ContentType="audio/x-wav"/>
  <Override PartName="/ppt/media/image1.png" ContentType="image/png"/>
  <Override PartName="/ppt/media/lzipup01.wav" ContentType="audio/x-wav"/>
  <Override PartName="/ppt/media/image17.wmf" ContentType="image/x-wmf"/>
  <Override PartName="/ppt/media/DRIVEBY.WAV" ContentType="audio/x-wav"/>
  <Override PartName="/ppt/media/caralarmoff.wav" ContentType="audio/x-wav"/>
  <Override PartName="/ppt/media/image7.wmf" ContentType="image/x-wmf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C617-79A4-4E7B-BEF1-FB714602E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B2D4-69B6-4AC2-B9B1-5E810C438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6BB7-26F2-41BC-B670-72C4037D5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C785-A385-4ECF-B94A-FFD093236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54F1-3350-4ABD-9EDB-439AFB89D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E5C3-23B5-43F3-9A33-1901208B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F80F-7922-4249-8461-E68C3746C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DBA2-47F5-4763-96D2-2994196C4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215C-DDA0-49BF-B6BC-BCFFCBC69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493D-99B6-44E3-92B8-6D021093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AAAA-B522-49B5-9ABB-12C270E8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9D65-FCBE-4148-95A8-77D334F6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9227D-7E1E-4A89-99B0-4AA036A8A2A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caralarmoff.wav"/><Relationship Id="rId3" Type="http://schemas.openxmlformats.org/officeDocument/2006/relationships/audio" Target="../media/bserie06.wav"/><Relationship Id="rId4" Type="http://schemas.openxmlformats.org/officeDocument/2006/relationships/audio" Target="../media/jetflyby.wav"/><Relationship Id="rId5" Type="http://schemas.openxmlformats.org/officeDocument/2006/relationships/audio" Target="../media/jetflyby2.wav"/><Relationship Id="rId6" Type="http://schemas.openxmlformats.org/officeDocument/2006/relationships/audio" Target="../media/bserie06.wav"/><Relationship Id="rId7" Type="http://schemas.openxmlformats.org/officeDocument/2006/relationships/audio" Target="../media/jetflyby2.wav"/><Relationship Id="rId8" Type="http://schemas.openxmlformats.org/officeDocument/2006/relationships/audio" Target="../media/bserie06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lzipup01.wav"/><Relationship Id="rId12" Type="http://schemas.openxmlformats.org/officeDocument/2006/relationships/audio" Target="../media/lzipup01.wav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ralarmoff.wav"/><Relationship Id="rId3" Type="http://schemas.openxmlformats.org/officeDocument/2006/relationships/audio" Target="../media/planeflyby.wav"/><Relationship Id="rId4" Type="http://schemas.openxmlformats.org/officeDocument/2006/relationships/audio" Target="../media/planeflyby.wav"/><Relationship Id="rId5" Type="http://schemas.openxmlformats.org/officeDocument/2006/relationships/audio" Target="../media/planeflyby.wav"/><Relationship Id="rId6" Type="http://schemas.openxmlformats.org/officeDocument/2006/relationships/audio" Target="../media/planeflyby.wav"/><Relationship Id="rId7" Type="http://schemas.openxmlformats.org/officeDocument/2006/relationships/audio" Target="../media/bserie06.wav"/><Relationship Id="rId8" Type="http://schemas.openxmlformats.org/officeDocument/2006/relationships/audio" Target="../media/Baseball%20critical%20stop.wav"/><Relationship Id="rId9" Type="http://schemas.openxmlformats.org/officeDocument/2006/relationships/audio" Target="../media/caralarmoff.wav"/><Relationship Id="rId10" Type="http://schemas.openxmlformats.org/officeDocument/2006/relationships/audio" Target="../media/bserie06.wav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caralarmoff.wav"/><Relationship Id="rId3" Type="http://schemas.openxmlformats.org/officeDocument/2006/relationships/audio" Target="../media/caralarmoff.wav"/><Relationship Id="rId4" Type="http://schemas.openxmlformats.org/officeDocument/2006/relationships/audio" Target="../media/jetflyby.wav"/><Relationship Id="rId5" Type="http://schemas.openxmlformats.org/officeDocument/2006/relationships/audio" Target="../media/jetflyby.wav"/><Relationship Id="rId6" Type="http://schemas.openxmlformats.org/officeDocument/2006/relationships/audio" Target="../media/jetflyby.wav"/><Relationship Id="rId7" Type="http://schemas.openxmlformats.org/officeDocument/2006/relationships/audio" Target="../media/jetflyby.wav"/><Relationship Id="rId8" Type="http://schemas.openxmlformats.org/officeDocument/2006/relationships/audio" Target="../media/jetflyby.wav"/><Relationship Id="rId9" Type="http://schemas.openxmlformats.org/officeDocument/2006/relationships/audio" Target="../media/jetflyby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bserie06.wav"/><Relationship Id="rId13" Type="http://schemas.openxmlformats.org/officeDocument/2006/relationships/audio" Target="../media/jetflyby2.wav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jetflyby.wav"/><Relationship Id="rId2" Type="http://schemas.openxmlformats.org/officeDocument/2006/relationships/audio" Target="../media/jetflyby.wav"/><Relationship Id="rId3" Type="http://schemas.openxmlformats.org/officeDocument/2006/relationships/audio" Target="../media/jetflyby.wav"/><Relationship Id="rId4" Type="http://schemas.openxmlformats.org/officeDocument/2006/relationships/audio" Target="../media/jetflyby.wav"/><Relationship Id="rId5" Type="http://schemas.openxmlformats.org/officeDocument/2006/relationships/audio" Target="../media/jetflyby.wav"/><Relationship Id="rId6" Type="http://schemas.openxmlformats.org/officeDocument/2006/relationships/audio" Target="../media/jetflyby.wav"/><Relationship Id="rId7" Type="http://schemas.openxmlformats.org/officeDocument/2006/relationships/audio" Target="../media/jetflyby2.wav"/><Relationship Id="rId8" Type="http://schemas.openxmlformats.org/officeDocument/2006/relationships/audio" Target="../media/jetflyby2.wav"/><Relationship Id="rId9" Type="http://schemas.openxmlformats.org/officeDocument/2006/relationships/audio" Target="../media/bserie06.wav"/><Relationship Id="rId10" Type="http://schemas.openxmlformats.org/officeDocument/2006/relationships/audio" Target="../media/jetflyby2.wav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jetflyby.wav"/><Relationship Id="rId2" Type="http://schemas.openxmlformats.org/officeDocument/2006/relationships/audio" Target="../media/jetflyby.wav"/><Relationship Id="rId3" Type="http://schemas.openxmlformats.org/officeDocument/2006/relationships/audio" Target="../media/jetflyby.wav"/><Relationship Id="rId4" Type="http://schemas.openxmlformats.org/officeDocument/2006/relationships/audio" Target="../media/jetflyby.wav"/><Relationship Id="rId5" Type="http://schemas.openxmlformats.org/officeDocument/2006/relationships/audio" Target="../media/jetflyby.wav"/><Relationship Id="rId6" Type="http://schemas.openxmlformats.org/officeDocument/2006/relationships/audio" Target="../media/jetflyby.wav"/><Relationship Id="rId7" Type="http://schemas.openxmlformats.org/officeDocument/2006/relationships/audio" Target="../media/jetflyby.wav"/><Relationship Id="rId8" Type="http://schemas.openxmlformats.org/officeDocument/2006/relationships/audio" Target="../media/jetflyby.wav"/><Relationship Id="rId9" Type="http://schemas.openxmlformats.org/officeDocument/2006/relationships/audio" Target="../media/jetflyby.wav"/><Relationship Id="rId10" Type="http://schemas.openxmlformats.org/officeDocument/2006/relationships/audio" Target="../media/jetflyby.wav"/><Relationship Id="rId11" Type="http://schemas.openxmlformats.org/officeDocument/2006/relationships/audio" Target="../media/jetflyby.wav"/><Relationship Id="rId12" Type="http://schemas.openxmlformats.org/officeDocument/2006/relationships/audio" Target="../media/jetflyby.wav"/><Relationship Id="rId13" Type="http://schemas.openxmlformats.org/officeDocument/2006/relationships/audio" Target="../media/jetflyby.wav"/><Relationship Id="rId14" Type="http://schemas.openxmlformats.org/officeDocument/2006/relationships/audio" Target="../media/jetflyby.wav"/><Relationship Id="rId15" Type="http://schemas.openxmlformats.org/officeDocument/2006/relationships/audio" Target="../media/jetflyby.wav"/><Relationship Id="rId16" Type="http://schemas.openxmlformats.org/officeDocument/2006/relationships/audio" Target="../media/jetflyby.wav"/><Relationship Id="rId17" Type="http://schemas.openxmlformats.org/officeDocument/2006/relationships/audio" Target="../media/jetflyby.wav"/><Relationship Id="rId18" Type="http://schemas.openxmlformats.org/officeDocument/2006/relationships/audio" Target="../media/jetflyby.wav"/><Relationship Id="rId19" Type="http://schemas.openxmlformats.org/officeDocument/2006/relationships/audio" Target="../media/jetflyby.wav"/><Relationship Id="rId20" Type="http://schemas.openxmlformats.org/officeDocument/2006/relationships/audio" Target="../media/jetflyby2.wav"/><Relationship Id="rId21" Type="http://schemas.openxmlformats.org/officeDocument/2006/relationships/audio" Target="../media/jetflyby2.wav"/><Relationship Id="rId22" Type="http://schemas.openxmlformats.org/officeDocument/2006/relationships/audio" Target="../media/bserie06.wav"/><Relationship Id="rId23" Type="http://schemas.openxmlformats.org/officeDocument/2006/relationships/audio" Target="../media/bserie06.wav"/><Relationship Id="rId24" Type="http://schemas.openxmlformats.org/officeDocument/2006/relationships/audio" Target="../media/bserie06.wav"/><Relationship Id="rId25" Type="http://schemas.openxmlformats.org/officeDocument/2006/relationships/audio" Target="../media/jetflyby2.wav"/><Relationship Id="rId2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planeflyby.wav"/><Relationship Id="rId3" Type="http://schemas.openxmlformats.org/officeDocument/2006/relationships/audio" Target="../media/planeflyby.wav"/><Relationship Id="rId4" Type="http://schemas.openxmlformats.org/officeDocument/2006/relationships/audio" Target="../media/planeflyby.wav"/><Relationship Id="rId5" Type="http://schemas.openxmlformats.org/officeDocument/2006/relationships/audio" Target="../media/planeflyby.wav"/><Relationship Id="rId6" Type="http://schemas.openxmlformats.org/officeDocument/2006/relationships/audio" Target="../media/planeflyby.wav"/><Relationship Id="rId7" Type="http://schemas.openxmlformats.org/officeDocument/2006/relationships/audio" Target="../media/planeflyby.wav"/><Relationship Id="rId8" Type="http://schemas.openxmlformats.org/officeDocument/2006/relationships/audio" Target="../media/planeflyby.wav"/><Relationship Id="rId9" Type="http://schemas.openxmlformats.org/officeDocument/2006/relationships/audio" Target="../media/planeflyby.wav"/><Relationship Id="rId10" Type="http://schemas.openxmlformats.org/officeDocument/2006/relationships/audio" Target="../media/planeflyby.wav"/><Relationship Id="rId11" Type="http://schemas.openxmlformats.org/officeDocument/2006/relationships/audio" Target="../media/planeflyby.wav"/><Relationship Id="rId12" Type="http://schemas.openxmlformats.org/officeDocument/2006/relationships/audio" Target="../media/planeflyby.wav"/><Relationship Id="rId13" Type="http://schemas.openxmlformats.org/officeDocument/2006/relationships/audio" Target="../media/planeflyby.wav"/><Relationship Id="rId14" Type="http://schemas.openxmlformats.org/officeDocument/2006/relationships/audio" Target="../media/planeflyby.wav"/><Relationship Id="rId15" Type="http://schemas.openxmlformats.org/officeDocument/2006/relationships/audio" Target="../media/planeflyby.wav"/><Relationship Id="rId16" Type="http://schemas.openxmlformats.org/officeDocument/2006/relationships/audio" Target="../media/planeflyby.wav"/><Relationship Id="rId17" Type="http://schemas.openxmlformats.org/officeDocument/2006/relationships/audio" Target="../media/planeflyby.wav"/><Relationship Id="rId18" Type="http://schemas.openxmlformats.org/officeDocument/2006/relationships/audio" Target="../media/planeflyby.wav"/><Relationship Id="rId19" Type="http://schemas.openxmlformats.org/officeDocument/2006/relationships/audio" Target="../media/planeflyby.wav"/><Relationship Id="rId20" Type="http://schemas.openxmlformats.org/officeDocument/2006/relationships/audio" Target="../media/planeflyby.wav"/><Relationship Id="rId21" Type="http://schemas.openxmlformats.org/officeDocument/2006/relationships/audio" Target="../media/caralarmoff.wav"/><Relationship Id="rId22" Type="http://schemas.openxmlformats.org/officeDocument/2006/relationships/audio" Target="../media/jetflyby2.wav"/><Relationship Id="rId23" Type="http://schemas.openxmlformats.org/officeDocument/2006/relationships/audio" Target="../media/caralarmoff.wav"/><Relationship Id="rId24" Type="http://schemas.openxmlformats.org/officeDocument/2006/relationships/audio" Target="../media/caralarmoff.wav"/><Relationship Id="rId25" Type="http://schemas.openxmlformats.org/officeDocument/2006/relationships/audio" Target="../media/caralarmoff.wav"/><Relationship Id="rId26" Type="http://schemas.openxmlformats.org/officeDocument/2006/relationships/audio" Target="../media/caralarmoff.wav"/><Relationship Id="rId2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zapbig0g.wav"/><Relationship Id="rId3" Type="http://schemas.openxmlformats.org/officeDocument/2006/relationships/audio" Target="../media/zapbig0g.wav"/><Relationship Id="rId4" Type="http://schemas.openxmlformats.org/officeDocument/2006/relationships/audio" Target="../media/caralarmoff.wav"/><Relationship Id="rId5" Type="http://schemas.openxmlformats.org/officeDocument/2006/relationships/audio" Target="../media/zapbig0g.wav"/><Relationship Id="rId6" Type="http://schemas.openxmlformats.org/officeDocument/2006/relationships/audio" Target="../media/zapbig0g.wav"/><Relationship Id="rId7" Type="http://schemas.openxmlformats.org/officeDocument/2006/relationships/audio" Target="../media/caralarmoff.wav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cool%20man.wav"/><Relationship Id="rId6" Type="http://schemas.openxmlformats.org/officeDocument/2006/relationships/audio" Target="../media/cool%20man.wav"/><Relationship Id="rId7" Type="http://schemas.openxmlformats.org/officeDocument/2006/relationships/audio" Target="../media/cool%20man.wav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lzipup01.wav"/><Relationship Id="rId9" Type="http://schemas.openxmlformats.org/officeDocument/2006/relationships/audio" Target="../media/bserie06.wav"/><Relationship Id="rId10" Type="http://schemas.openxmlformats.org/officeDocument/2006/relationships/audio" Target="../media/lzipup01.wav"/><Relationship Id="rId11" Type="http://schemas.openxmlformats.org/officeDocument/2006/relationships/audio" Target="../media/lzipup01.wav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lzipup01.wav"/><Relationship Id="rId9" Type="http://schemas.openxmlformats.org/officeDocument/2006/relationships/audio" Target="../media/bserie06.wav"/><Relationship Id="rId10" Type="http://schemas.openxmlformats.org/officeDocument/2006/relationships/audio" Target="../media/lzipup01.wav"/><Relationship Id="rId11" Type="http://schemas.openxmlformats.org/officeDocument/2006/relationships/audio" Target="../media/lzipup01.wav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audio" Target="../media/CHIMES.WAV"/><Relationship Id="rId8" Type="http://schemas.openxmlformats.org/officeDocument/2006/relationships/audio" Target="../media/LASER.WAV"/><Relationship Id="rId9" Type="http://schemas.openxmlformats.org/officeDocument/2006/relationships/audio" Target="../media/Baseball%20critical%20stop.wav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4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5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6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7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5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8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19.wmf"/><Relationship Id="rId41" Type="http://schemas.openxmlformats.org/officeDocument/2006/relationships/audio" Target="../media/highchime.wav"/><Relationship Id="rId42" Type="http://schemas.openxmlformats.org/officeDocument/2006/relationships/audio" Target="../media/CAMERA.WAV"/><Relationship Id="rId43" Type="http://schemas.openxmlformats.org/officeDocument/2006/relationships/audio" Target="../media/CAMERA.WAV"/><Relationship Id="rId44" Type="http://schemas.openxmlformats.org/officeDocument/2006/relationships/audio" Target="../media/CAMERA.WAV"/><Relationship Id="rId45" Type="http://schemas.openxmlformats.org/officeDocument/2006/relationships/audio" Target="../media/CAMERA.WAV"/><Relationship Id="rId46" Type="http://schemas.openxmlformats.org/officeDocument/2006/relationships/audio" Target="../media/CAMERA.WAV"/><Relationship Id="rId47" Type="http://schemas.openxmlformats.org/officeDocument/2006/relationships/audio" Target="../media/lzipup01.wav"/><Relationship Id="rId48" Type="http://schemas.openxmlformats.org/officeDocument/2006/relationships/audio" Target="../media/lzipup01.wav"/><Relationship Id="rId49" Type="http://schemas.openxmlformats.org/officeDocument/2006/relationships/audio" Target="../media/DRIVEBY.WAV"/><Relationship Id="rId50" Type="http://schemas.openxmlformats.org/officeDocument/2006/relationships/audio" Target="../media/lzipup01.wav"/><Relationship Id="rId51" Type="http://schemas.openxmlformats.org/officeDocument/2006/relationships/audio" Target="../media/lzipup01.wav"/><Relationship Id="rId52" Type="http://schemas.openxmlformats.org/officeDocument/2006/relationships/audio" Target="../media/hzipup01.wav"/><Relationship Id="rId53" Type="http://schemas.openxmlformats.org/officeDocument/2006/relationships/audio" Target="../media/lzipup01.wav"/><Relationship Id="rId54" Type="http://schemas.openxmlformats.org/officeDocument/2006/relationships/audio" Target="../media/hzipup01.wav"/><Relationship Id="rId55" Type="http://schemas.openxmlformats.org/officeDocument/2006/relationships/audio" Target="../media/lzipup01.wav"/><Relationship Id="rId56" Type="http://schemas.openxmlformats.org/officeDocument/2006/relationships/audio" Target="../media/lzipup01.wav"/><Relationship Id="rId57" Type="http://schemas.openxmlformats.org/officeDocument/2006/relationships/audio" Target="../media/policesiren.wav"/><Relationship Id="rId58" Type="http://schemas.openxmlformats.org/officeDocument/2006/relationships/audio" Target="../media/lzipup01.wav"/><Relationship Id="rId59" Type="http://schemas.openxmlformats.org/officeDocument/2006/relationships/audio" Target="../media/lzipup01.wav"/><Relationship Id="rId60" Type="http://schemas.openxmlformats.org/officeDocument/2006/relationships/audio" Target="../media/lzipup01.wav"/><Relationship Id="rId61" Type="http://schemas.openxmlformats.org/officeDocument/2006/relationships/audio" Target="../media/Baseball%20critical%20stop.wav"/><Relationship Id="rId62" Type="http://schemas.openxmlformats.org/officeDocument/2006/relationships/audio" Target="../media/lzipup01.wav"/><Relationship Id="rId63" Type="http://schemas.openxmlformats.org/officeDocument/2006/relationships/audio" Target="../media/lzipup01.wav"/><Relationship Id="rId64" Type="http://schemas.openxmlformats.org/officeDocument/2006/relationships/audio" Target="../media/Baseball%20critical%20stop.wav"/><Relationship Id="rId65" Type="http://schemas.openxmlformats.org/officeDocument/2006/relationships/audio" Target="../media/Baseball%20critical%20stop.wav"/><Relationship Id="rId6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zipup202.wav"/><Relationship Id="rId2" Type="http://schemas.openxmlformats.org/officeDocument/2006/relationships/audio" Target="../media/DRIVEBY.WAV"/><Relationship Id="rId3" Type="http://schemas.openxmlformats.org/officeDocument/2006/relationships/audio" Target="../media/DRIVEBY.WAV"/><Relationship Id="rId4" Type="http://schemas.openxmlformats.org/officeDocument/2006/relationships/audio" Target="../media/zipup202.wav"/><Relationship Id="rId5" Type="http://schemas.openxmlformats.org/officeDocument/2006/relationships/audio" Target="../media/DRIVEBY.WAV"/><Relationship Id="rId6" Type="http://schemas.openxmlformats.org/officeDocument/2006/relationships/audio" Target="../media/zipup202.wav"/><Relationship Id="rId7" Type="http://schemas.openxmlformats.org/officeDocument/2006/relationships/audio" Target="../media/zipdn102.wav"/><Relationship Id="rId8" Type="http://schemas.openxmlformats.org/officeDocument/2006/relationships/audio" Target="../media/zipdn102.wav"/><Relationship Id="rId9" Type="http://schemas.openxmlformats.org/officeDocument/2006/relationships/audio" Target="../media/zipdn102.wav"/><Relationship Id="rId10" Type="http://schemas.openxmlformats.org/officeDocument/2006/relationships/audio" Target="../media/zipdn102.wav"/><Relationship Id="rId11" Type="http://schemas.openxmlformats.org/officeDocument/2006/relationships/audio" Target="../media/zipdn102.wav"/><Relationship Id="rId12" Type="http://schemas.openxmlformats.org/officeDocument/2006/relationships/audio" Target="../media/zipdn102.wav"/><Relationship Id="rId13" Type="http://schemas.openxmlformats.org/officeDocument/2006/relationships/audio" Target="../media/zipdn102.wav"/><Relationship Id="rId14" Type="http://schemas.openxmlformats.org/officeDocument/2006/relationships/audio" Target="../media/zipdn102.wav"/><Relationship Id="rId15" Type="http://schemas.openxmlformats.org/officeDocument/2006/relationships/audio" Target="../media/RICOCHET.WAV"/><Relationship Id="rId16" Type="http://schemas.openxmlformats.org/officeDocument/2006/relationships/audio" Target="../media/zipdn102.wav"/><Relationship Id="rId17" Type="http://schemas.openxmlformats.org/officeDocument/2006/relationships/audio" Target="../media/zipdn102.wav"/><Relationship Id="rId18" Type="http://schemas.openxmlformats.org/officeDocument/2006/relationships/audio" Target="../media/caralarmoff.wav"/><Relationship Id="rId19" Type="http://schemas.openxmlformats.org/officeDocument/2006/relationships/audio" Target="../media/zipdn102.wav"/><Relationship Id="rId20" Type="http://schemas.openxmlformats.org/officeDocument/2006/relationships/audio" Target="../media/zipdn102.wav"/><Relationship Id="rId21" Type="http://schemas.openxmlformats.org/officeDocument/2006/relationships/audio" Target="../media/caralarmoff.wav"/><Relationship Id="rId22" Type="http://schemas.openxmlformats.org/officeDocument/2006/relationships/audio" Target="../media/zipdn102.wav"/><Relationship Id="rId23" Type="http://schemas.openxmlformats.org/officeDocument/2006/relationships/audio" Target="../media/zipdn102.wav"/><Relationship Id="rId24" Type="http://schemas.openxmlformats.org/officeDocument/2006/relationships/audio" Target="../media/caralarmoff.wav"/><Relationship Id="rId25" Type="http://schemas.openxmlformats.org/officeDocument/2006/relationships/audio" Target="../media/zipdn102.wav"/><Relationship Id="rId26" Type="http://schemas.openxmlformats.org/officeDocument/2006/relationships/audio" Target="../media/zipdn102.wav"/><Relationship Id="rId27" Type="http://schemas.openxmlformats.org/officeDocument/2006/relationships/audio" Target="../media/caralarmoff.wav"/><Relationship Id="rId28" Type="http://schemas.openxmlformats.org/officeDocument/2006/relationships/audio" Target="../media/RICOCHET.WAV"/><Relationship Id="rId29" Type="http://schemas.openxmlformats.org/officeDocument/2006/relationships/audio" Target="../media/zipdn102.wav"/><Relationship Id="rId30" Type="http://schemas.openxmlformats.org/officeDocument/2006/relationships/audio" Target="../media/zipdn102.wav"/><Relationship Id="rId31" Type="http://schemas.openxmlformats.org/officeDocument/2006/relationships/audio" Target="../media/caralarmoff.wav"/><Relationship Id="rId32" Type="http://schemas.openxmlformats.org/officeDocument/2006/relationships/audio" Target="../media/zipdn102.wav"/><Relationship Id="rId33" Type="http://schemas.openxmlformats.org/officeDocument/2006/relationships/audio" Target="../media/zipdn102.wav"/><Relationship Id="rId34" Type="http://schemas.openxmlformats.org/officeDocument/2006/relationships/audio" Target="../media/caralarmoff.wav"/><Relationship Id="rId3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zapbig0g.wav"/><Relationship Id="rId3" Type="http://schemas.openxmlformats.org/officeDocument/2006/relationships/audio" Target="../media/zapbig0g.wav"/><Relationship Id="rId4" Type="http://schemas.openxmlformats.org/officeDocument/2006/relationships/audio" Target="../media/zapbig0g.wav"/><Relationship Id="rId5" Type="http://schemas.openxmlformats.org/officeDocument/2006/relationships/audio" Target="../media/zapbig0g.wav"/><Relationship Id="rId6" Type="http://schemas.openxmlformats.org/officeDocument/2006/relationships/audio" Target="../media/zapbig0g.wav"/><Relationship Id="rId7" Type="http://schemas.openxmlformats.org/officeDocument/2006/relationships/audio" Target="../media/zapbig0g.wav"/><Relationship Id="rId8" Type="http://schemas.openxmlformats.org/officeDocument/2006/relationships/audio" Target="../media/zapbig0g.wav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DRIVEBY.WAV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EXPLODE.WAV"/><Relationship Id="rId15" Type="http://schemas.openxmlformats.org/officeDocument/2006/relationships/audio" Target="../media/boinng04.wav"/><Relationship Id="rId16" Type="http://schemas.openxmlformats.org/officeDocument/2006/relationships/audio" Target="../media/boinng04.wav"/><Relationship Id="rId17" Type="http://schemas.openxmlformats.org/officeDocument/2006/relationships/audio" Target="../media/RICOCHET.WAV"/><Relationship Id="rId18" Type="http://schemas.openxmlformats.org/officeDocument/2006/relationships/audio" Target="../media/EXPLODE.WAV"/><Relationship Id="rId19" Type="http://schemas.openxmlformats.org/officeDocument/2006/relationships/audio" Target="../media/TYPE.WAV"/><Relationship Id="rId20" Type="http://schemas.openxmlformats.org/officeDocument/2006/relationships/audio" Target="../media/EXPLODE.WAV"/><Relationship Id="rId21" Type="http://schemas.openxmlformats.org/officeDocument/2006/relationships/audio" Target="../media/EXPLODE.WAV"/><Relationship Id="rId22" Type="http://schemas.openxmlformats.org/officeDocument/2006/relationships/audio" Target="../media/EXPLODE.WAV"/><Relationship Id="rId23" Type="http://schemas.openxmlformats.org/officeDocument/2006/relationships/audio" Target="../media/TYPE.WAV"/><Relationship Id="rId24" Type="http://schemas.openxmlformats.org/officeDocument/2006/relationships/audio" Target="../media/EXPLODE.WAV"/><Relationship Id="rId25" Type="http://schemas.openxmlformats.org/officeDocument/2006/relationships/audio" Target="../media/bserie06.wav"/><Relationship Id="rId26" Type="http://schemas.openxmlformats.org/officeDocument/2006/relationships/audio" Target="../media/RICOCHET.WAV"/><Relationship Id="rId27" Type="http://schemas.openxmlformats.org/officeDocument/2006/relationships/audio" Target="../media/EXPLODE.WAV"/><Relationship Id="rId28" Type="http://schemas.openxmlformats.org/officeDocument/2006/relationships/audio" Target="../media/TYPE.WAV"/><Relationship Id="rId29" Type="http://schemas.openxmlformats.org/officeDocument/2006/relationships/audio" Target="../media/EXPLODE.WAV"/><Relationship Id="rId30" Type="http://schemas.openxmlformats.org/officeDocument/2006/relationships/audio" Target="../media/RICOCHET.WAV"/><Relationship Id="rId31" Type="http://schemas.openxmlformats.org/officeDocument/2006/relationships/audio" Target="../media/EXPLODE.WAV"/><Relationship Id="rId3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gle Defin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2492280" y="1981080"/>
            <a:ext cx="4191120" cy="1828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60560" y="1752480"/>
            <a:ext cx="3517920" cy="21844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89240" y="4335480"/>
            <a:ext cx="270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Vertical Ang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/>
          <p:nvPr/>
        </p:nvCxnSpPr>
        <p:spPr>
          <a:xfrm flipH="1" flipV="1" rot="5400000">
            <a:off x="3607560" y="2818080"/>
            <a:ext cx="711720" cy="2160"/>
          </a:xfrm>
          <a:prstGeom prst="curvedConnector5">
            <a:avLst>
              <a:gd name="adj1" fmla="val 1315"/>
              <a:gd name="adj2" fmla="val -7600000"/>
              <a:gd name="adj3" fmla="val 1315"/>
            </a:avLst>
          </a:prstGeom>
          <a:ln w="57240">
            <a:solidFill>
              <a:srgbClr val="0000cc"/>
            </a:solidFill>
            <a:miter/>
            <a:tailEnd len="med" type="triangle" w="med"/>
          </a:ln>
        </p:spPr>
      </p:cxnSp>
      <p:cxnSp>
        <p:nvCxnSpPr>
          <p:cNvPr id="47" name=""/>
          <p:cNvCxnSpPr/>
          <p:nvPr/>
        </p:nvCxnSpPr>
        <p:spPr>
          <a:xfrm flipH="1" flipV="1" rot="5400000">
            <a:off x="5008320" y="2925720"/>
            <a:ext cx="711720" cy="2520"/>
          </a:xfrm>
          <a:prstGeom prst="curvedConnector5">
            <a:avLst>
              <a:gd name="adj1" fmla="val 1315"/>
              <a:gd name="adj2" fmla="val 8850000"/>
              <a:gd name="adj3" fmla="val 1315"/>
            </a:avLst>
          </a:prstGeom>
          <a:ln w="57240">
            <a:solidFill>
              <a:srgbClr val="0000cc"/>
            </a:solidFill>
            <a:miter/>
            <a:head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1077840" y="4822920"/>
            <a:ext cx="742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Angles on the opposite side from one an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33440" y="5396040"/>
            <a:ext cx="666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They will always have the same meas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627520" y="2666880"/>
            <a:ext cx="5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11560" y="2571840"/>
            <a:ext cx="5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798640" y="5843520"/>
                <a:ext cx="157176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4334040" y="5853240"/>
                <a:ext cx="2290680" cy="71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 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452  9 – 2 #1 – 8, 9 – 16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719280"/>
            <a:ext cx="565776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sum of the measures of in the figure at the right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552920" y="2354400"/>
            <a:ext cx="3729240" cy="10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605560" y="192240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292800" y="183204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093080" y="193680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5659560" y="725400"/>
                <a:ext cx="298296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∠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 flipV="1">
            <a:off x="6400800" y="1571400"/>
            <a:ext cx="1622520" cy="79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5254200" y="1481040"/>
            <a:ext cx="1171800" cy="874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09600" y="2747880"/>
            <a:ext cx="859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Since all three angles make a straight line, they are supplementary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3935520" y="4191120"/>
                <a:ext cx="133020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3" name=""/>
          <p:cNvSpPr/>
          <p:nvPr/>
        </p:nvSpPr>
        <p:spPr>
          <a:xfrm>
            <a:off x="0" y="4832280"/>
            <a:ext cx="8933040" cy="16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2.  Fill in the blank.  The sum of the measures of two angles is 90</a:t>
            </a:r>
            <a:r>
              <a:rPr b="1" lang="en-US" sz="29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.  The angles are __________________ angle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310360" y="5310360"/>
            <a:ext cx="332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mplementar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2600"/>
                            </p:stCondLst>
                            <p:childTnLst>
                              <p:par>
                                <p:cTn id="915" nodeType="after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91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1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1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91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4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5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6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lane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3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3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lane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4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4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lane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4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4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lane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aseball%20critical%20st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9" dur="8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0" dur="8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1" dur="8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452  9 – 2 #1 – 8, 9 – 16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719280"/>
            <a:ext cx="5657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Name the angle vertical to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713120" y="278604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2495520" y="2816280"/>
                <a:ext cx="114444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3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3495600" y="3157560"/>
                <a:ext cx="118764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2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5334120" y="2604960"/>
                <a:ext cx="273348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4237200" y="711360"/>
                <a:ext cx="74592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>
            <a:off x="0" y="1249200"/>
            <a:ext cx="5657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Name the angle adjacent to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4410000" y="1241280"/>
                <a:ext cx="74628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4" name=""/>
          <p:cNvSpPr/>
          <p:nvPr/>
        </p:nvSpPr>
        <p:spPr>
          <a:xfrm>
            <a:off x="5259240" y="1227240"/>
            <a:ext cx="1797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n find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6964200" y="1247760"/>
                <a:ext cx="110520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∠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6" name=""/>
          <p:cNvSpPr/>
          <p:nvPr/>
        </p:nvSpPr>
        <p:spPr>
          <a:xfrm>
            <a:off x="1481040" y="2395440"/>
            <a:ext cx="5181840" cy="14065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538280" y="1958760"/>
            <a:ext cx="4921200" cy="2438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79800" y="317196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44960" y="290340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3578400" y="2401920"/>
                <a:ext cx="113004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6630840" y="3165480"/>
                <a:ext cx="114300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2" name=""/>
          <p:cNvSpPr/>
          <p:nvPr/>
        </p:nvSpPr>
        <p:spPr>
          <a:xfrm>
            <a:off x="939960" y="2108160"/>
            <a:ext cx="48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7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8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9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7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8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9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7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8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9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4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4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4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5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5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5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5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5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65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6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6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6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7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7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7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7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7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8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8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8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8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animMotion origin="layout" path="M 3.33333E-006 1.90751E-006 L -0.01441 0.39306 E">
                                      <p:cBhvr>
                                        <p:cTn id="1093" dur="20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animMotion origin="layout" path="M -2.22222E-006 9.24855E-007 L 0.00156 0.34266 E">
                                      <p:cBhvr>
                                        <p:cTn id="1100" dur="2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animMotion origin="layout" path="M -3.61111E-006 -1.15607E-006 L -0.21753 0.34243 E">
                                      <p:cBhvr>
                                        <p:cTn id="1115" dur="2000" fill="hold"/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452  9 – 2 #1 – 8, 9 – 16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719280"/>
            <a:ext cx="5657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Name the angle vertical to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595680" y="290052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4165560" y="3267000"/>
                <a:ext cx="114480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3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4032360" y="2430360"/>
                <a:ext cx="118728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2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1387440" y="2492280"/>
                <a:ext cx="247032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4237200" y="711360"/>
                <a:ext cx="74592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0" name=""/>
          <p:cNvSpPr/>
          <p:nvPr/>
        </p:nvSpPr>
        <p:spPr>
          <a:xfrm>
            <a:off x="0" y="1249200"/>
            <a:ext cx="5657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Name the angle adjacent to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4410000" y="1241280"/>
                <a:ext cx="74628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5259240" y="1227240"/>
            <a:ext cx="1797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n find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6964200" y="1247760"/>
                <a:ext cx="110520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∠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4" name=""/>
          <p:cNvSpPr/>
          <p:nvPr/>
        </p:nvSpPr>
        <p:spPr>
          <a:xfrm>
            <a:off x="4092480" y="1844640"/>
            <a:ext cx="0" cy="30020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1538280" y="2379240"/>
            <a:ext cx="5167440" cy="2017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122720" y="270504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162320" y="330840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3187800" y="3708360"/>
                <a:ext cx="88272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1563840" y="3252960"/>
                <a:ext cx="1407960" cy="70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0" name=""/>
          <p:cNvSpPr/>
          <p:nvPr/>
        </p:nvSpPr>
        <p:spPr>
          <a:xfrm>
            <a:off x="939960" y="2108160"/>
            <a:ext cx="48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6" dur="indefinite" restart="never" nodeType="tmRoot">
          <p:childTnLst>
            <p:seq>
              <p:cTn id="1117" dur="indefinite" nodeType="mainSeq">
                <p:childTnLst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2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2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2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2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2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2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3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3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4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4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4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4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4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4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4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4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5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5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5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5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5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5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6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6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animMotion origin="layout" path="M 4.44444E-006 -2.83237E-006 L -0.22084 0.31376 E">
                                      <p:cBhvr>
                                        <p:cTn id="1168" dur="2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animMotion origin="layout" path="M -2.77778E-006 -3.12139E-006 L -0.07152 0.437 E">
                                      <p:cBhvr>
                                        <p:cTn id="1175" dur="2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animMotion origin="layout" path="M 3.33333E-006 2.08092E-006 L 0.33628 0.31838 E">
                                      <p:cBhvr>
                                        <p:cTn id="1190" dur="2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452  9 – 2 #1 – 8, 9 – 16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719280"/>
            <a:ext cx="5657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Name the angle vertical to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137040" y="317808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2736720" y="3722760"/>
                <a:ext cx="2465640" cy="79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HPM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4683240" y="2475000"/>
                <a:ext cx="2155680" cy="79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KPL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6489720" y="1768320"/>
                <a:ext cx="242568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8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4237200" y="711360"/>
                <a:ext cx="74592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0" y="1249200"/>
            <a:ext cx="5657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Name the angle adjacent to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4410000" y="1241280"/>
                <a:ext cx="74628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0" name=""/>
          <p:cNvSpPr/>
          <p:nvPr/>
        </p:nvSpPr>
        <p:spPr>
          <a:xfrm>
            <a:off x="5259240" y="1227240"/>
            <a:ext cx="1797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n find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6964200" y="1247760"/>
                <a:ext cx="110520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∠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2" name=""/>
          <p:cNvSpPr/>
          <p:nvPr/>
        </p:nvSpPr>
        <p:spPr>
          <a:xfrm>
            <a:off x="2655720" y="1932120"/>
            <a:ext cx="3062520" cy="2681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1989000" y="1855800"/>
            <a:ext cx="4251600" cy="27590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97360" y="322884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4703760" y="3259080"/>
                <a:ext cx="88272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8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7174080" y="3914640"/>
                <a:ext cx="109980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7" name=""/>
          <p:cNvSpPr/>
          <p:nvPr/>
        </p:nvSpPr>
        <p:spPr>
          <a:xfrm>
            <a:off x="1770120" y="3251160"/>
            <a:ext cx="50371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351160" y="4295880"/>
            <a:ext cx="101520" cy="1015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319720" y="4245120"/>
            <a:ext cx="101520" cy="1015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327720" y="3193920"/>
            <a:ext cx="101520" cy="1018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40560" y="2097000"/>
            <a:ext cx="101520" cy="1015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003480" y="2235240"/>
            <a:ext cx="101520" cy="1015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198520" y="3186000"/>
            <a:ext cx="101880" cy="1018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897200" y="393876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049480" y="268452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000240" y="177804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Arial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416560" y="161136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Arial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135840" y="2722680"/>
            <a:ext cx="47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73720" y="3833640"/>
            <a:ext cx="53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3774960" y="2409840"/>
                <a:ext cx="112896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8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6180120" y="3284640"/>
                <a:ext cx="2735280" cy="70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7211880" y="2514600"/>
                <a:ext cx="114624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4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3" name=""/>
          <p:cNvSpPr/>
          <p:nvPr/>
        </p:nvSpPr>
        <p:spPr>
          <a:xfrm>
            <a:off x="1200240" y="2079720"/>
            <a:ext cx="48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1" dur="indefinite" restart="never" nodeType="tmRoot">
          <p:childTnLst>
            <p:seq>
              <p:cTn id="1192" dur="indefinite" nodeType="mainSeq">
                <p:childTnLst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9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9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9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0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0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9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1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1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1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2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2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2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2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2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3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3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3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3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3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39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4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4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4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4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45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4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4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4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5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5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5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5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5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5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5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6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6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6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6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6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69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7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7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7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5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7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7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7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8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8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8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8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8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9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9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9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9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99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0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0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05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0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0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1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1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1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1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etflyby2.wav"/>
                                        </p:tgtEl>
                                      </p:cMediaNode>
                                    </p:audio>
                                    <p:animMotion origin="layout" path="M -4.72222E-006 2.89017E-006 L -0.42378 0.4074 E">
                                      <p:cBhvr>
                                        <p:cTn id="1321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jetflyby2.wav"/>
                                        </p:tgtEl>
                                      </p:cMediaNode>
                                    </p:audio>
                                    <p:animMotion origin="layout" path="M 2.22222E-006 -1.21387E-006 L 0.02205 0.22312 E">
                                      <p:cBhvr>
                                        <p:cTn id="1328" dur="2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jetflyby2.wav"/>
                                        </p:tgtEl>
                                      </p:cMediaNode>
                                    </p:audio>
                                    <p:animMotion origin="layout" path="M 1.94444E-006 -4.10405E-006 L -0.18594 0.19145 E">
                                      <p:cBhvr>
                                        <p:cTn id="1359" dur="2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452  9 – 2 #1 – 8, 9 – 16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719280"/>
            <a:ext cx="82281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Use the figure below for Exercises 6 – 8.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322960" y="164160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89080" y="3889440"/>
            <a:ext cx="8181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6.  Name four pairs of corresponding angles.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757600" y="1614600"/>
            <a:ext cx="5297400" cy="10872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3773520" y="1568520"/>
            <a:ext cx="2700360" cy="19447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867200" y="203976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438880" y="216540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2419200"/>
            <a:ext cx="5297400" cy="10875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301920" y="1693800"/>
            <a:ext cx="101520" cy="1015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84520" y="2498760"/>
            <a:ext cx="101520" cy="1015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075440" y="2462040"/>
            <a:ext cx="101520" cy="1018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559560" y="3282840"/>
            <a:ext cx="101520" cy="1018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173400" y="119556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924600" y="194328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513160" y="201456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16640" y="280044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896080" y="176544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335480" y="238140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807000" y="2752560"/>
            <a:ext cx="47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94160" y="288936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946760" y="252720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185840" y="4537080"/>
            <a:ext cx="1676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8 and 4,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709720" y="4537080"/>
            <a:ext cx="1676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5 and 1,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185840" y="4917960"/>
            <a:ext cx="1676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6 and 2,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709720" y="491796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7 and 3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889440" y="2771640"/>
            <a:ext cx="1596960" cy="33516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092480" y="2655720"/>
            <a:ext cx="857520" cy="60984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341960" y="237492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  <a:ea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813120" y="274644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  <a:ea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00640" y="288288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  <a:ea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2880" y="252108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  <a:ea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0" dur="indefinite" restart="never" nodeType="tmRoot">
          <p:childTnLst>
            <p:seq>
              <p:cTn id="1361" dur="indefinite" nodeType="mainSeq">
                <p:childTnLst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6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7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8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lane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7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7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7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7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lane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79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8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8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8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lane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85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8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8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8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8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lane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9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9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9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9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lane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9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9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9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0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0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lane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0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0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0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0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lane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09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1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1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1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lane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15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1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1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1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lane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2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2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2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2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2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lane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2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2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2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3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3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lane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3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3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3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3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lane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39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4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4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4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plane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45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4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4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4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4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plane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5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5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5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5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5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plane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5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5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5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6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6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lane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6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6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6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6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6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plane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69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7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7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7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plane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75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7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7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7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7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plane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8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8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8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8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9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0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1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jetflyby2.wav"/>
                                        </p:tgtEl>
                                      </p:cMediaNode>
                                    </p:audio>
                                    <p:animMotion origin="layout" path="M 0 0 L 0.11111 -0.10566 E">
                                      <p:cBhvr>
                                        <p:cTn id="1508" dur="20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1111 -0.10566 E">
                                      <p:cBhvr>
                                        <p:cTn id="1510" dur="20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1111 -0.10566 E">
                                      <p:cBhvr>
                                        <p:cTn id="1512" dur="2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1111 -0.10566 E">
                                      <p:cBhvr>
                                        <p:cTn id="1514" dur="20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1111 -0.10566 E">
                                      <p:cBhvr>
                                        <p:cTn id="1516" dur="2000" fill="hold"/>
                                        <p:tgtEl>
                                          <p:spTgt spid="3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1111 -0.10566 E">
                                      <p:cBhvr>
                                        <p:cTn id="1518" dur="20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3" dur="75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8" dur="75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3" dur="75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8" dur="75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452  9 – 2 #1 – 8, 9 – 16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719280"/>
            <a:ext cx="82281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Use the figure below for Exercises 6 – 8.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322960" y="164160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89080" y="3889440"/>
            <a:ext cx="8181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7.  Name the alternate interior angles.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757600" y="1614600"/>
            <a:ext cx="5297400" cy="10872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3773520" y="1568520"/>
            <a:ext cx="2700360" cy="19447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67200" y="203976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438880" y="216540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111400" y="2419200"/>
            <a:ext cx="5297400" cy="10875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301920" y="1693800"/>
            <a:ext cx="101520" cy="1015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684520" y="2498760"/>
            <a:ext cx="101520" cy="1015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075440" y="2462040"/>
            <a:ext cx="101520" cy="1018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559560" y="3282840"/>
            <a:ext cx="101520" cy="1018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173400" y="119556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924600" y="194328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13160" y="201456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416640" y="280044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896080" y="176544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335480" y="238140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807000" y="2752560"/>
            <a:ext cx="47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394160" y="288936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946760" y="252720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852480" y="4611600"/>
            <a:ext cx="1676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5 and 3,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376360" y="46116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8 and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859280" y="204624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938840" y="253368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  <a:ea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432400" y="217332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  <a:ea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329000" y="238932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  <a:ea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9" dur="indefinite" restart="never" nodeType="tmRoot">
          <p:childTnLst>
            <p:seq>
              <p:cTn id="1540" dur="indefinite" nodeType="mainSeq">
                <p:childTnLst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5" dur="8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6" dur="8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7" dur="8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4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2" dur="75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7" dur="75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452  9 – 2 #1 – 8, 9 – 16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719280"/>
            <a:ext cx="82281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Use the figure below for Exercises 6 – 8.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322960" y="164160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89080" y="3889440"/>
            <a:ext cx="24634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8.  Suppose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757600" y="1614600"/>
            <a:ext cx="5297400" cy="10872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3773520" y="1568520"/>
            <a:ext cx="2700360" cy="19447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867200" y="203976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438880" y="216540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111400" y="2419200"/>
            <a:ext cx="5297400" cy="10875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301920" y="1693800"/>
            <a:ext cx="101520" cy="1015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684520" y="2498760"/>
            <a:ext cx="101520" cy="1015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075440" y="2462040"/>
            <a:ext cx="101520" cy="1018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559560" y="3282840"/>
            <a:ext cx="101520" cy="1018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173400" y="119556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924600" y="194328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513160" y="201456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416640" y="280044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896080" y="176544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335480" y="238140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807000" y="2752560"/>
            <a:ext cx="47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394160" y="288936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946760" y="2527200"/>
            <a:ext cx="4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62120" y="4389480"/>
            <a:ext cx="4784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Name all angles congruent to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2254320" y="3738600"/>
                <a:ext cx="14968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acc>
                    <m:r>
                      <m:t xml:space="preserve">‖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5475240" y="4297320"/>
                <a:ext cx="8938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1644480" y="5078520"/>
                <a:ext cx="120996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6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2827440" y="5084640"/>
                <a:ext cx="1209600" cy="8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2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4106880" y="5100480"/>
                <a:ext cx="104472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8" dur="indefinite" restart="never" nodeType="tmRoot">
          <p:childTnLst>
            <p:seq>
              <p:cTn id="1579" dur="indefinite" nodeType="mainSeq">
                <p:childTnLst>
                  <p:par>
                    <p:cTn id="1580" fill="hold">
                      <p:stCondLst>
                        <p:cond delay="indefinite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ol%20ma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fill="hold">
                      <p:stCondLst>
                        <p:cond delay="indefinite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ool%20ma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ool%20ma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gle Defin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89240" y="4605480"/>
            <a:ext cx="270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Adjacent Ang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1720" y="5092560"/>
            <a:ext cx="576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Angles that share a common si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89000" y="3817800"/>
            <a:ext cx="4978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989000" y="2423880"/>
            <a:ext cx="4513320" cy="1393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973160" y="1320840"/>
            <a:ext cx="2090880" cy="249696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996920" y="2428920"/>
            <a:ext cx="4513320" cy="139392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gle Defin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63840" y="4591080"/>
            <a:ext cx="40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omplementary Ang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09680" y="5092560"/>
            <a:ext cx="638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 sum of the angles equals 90 degre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89000" y="3817800"/>
            <a:ext cx="4978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1989000" y="2423880"/>
            <a:ext cx="4513320" cy="1393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1973160" y="915480"/>
            <a:ext cx="0" cy="290196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996920" y="2428920"/>
            <a:ext cx="4513320" cy="139392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13040" y="3276720"/>
            <a:ext cx="5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050920" y="3108240"/>
            <a:ext cx="55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477800" y="5627520"/>
                <a:ext cx="157176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3035160" y="5635800"/>
                <a:ext cx="2246400" cy="71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m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 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5443560" y="5613480"/>
                <a:ext cx="139212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gle Defin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463840" y="4591080"/>
            <a:ext cx="40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Supplementary Ang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09680" y="5092560"/>
            <a:ext cx="64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 sum of the angles equals 180 degre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00640" y="3817800"/>
            <a:ext cx="3727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2367000" y="1365120"/>
            <a:ext cx="2028960" cy="2462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1387440" y="3817800"/>
            <a:ext cx="3005280" cy="504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2371320" y="1376280"/>
            <a:ext cx="2027160" cy="244944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292640" y="3251160"/>
            <a:ext cx="5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41600" y="3274920"/>
            <a:ext cx="55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477800" y="5611680"/>
                <a:ext cx="157176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3035160" y="5635800"/>
                <a:ext cx="2246400" cy="71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m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 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5430960" y="5613480"/>
                <a:ext cx="170640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0" y="0"/>
          <a:ext cx="9145440" cy="621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5440" cy="62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1905120" y="5562720"/>
          <a:ext cx="1981080" cy="636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5562720"/>
                    <a:ext cx="19810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3809880" y="5410080"/>
          <a:ext cx="1552680" cy="804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9880" y="5410080"/>
                    <a:ext cx="155268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aseball%20critical%20st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0" y="0"/>
          <a:ext cx="9296280" cy="427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96280" cy="42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2362320" y="3352680"/>
          <a:ext cx="1600200" cy="50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3352680"/>
                    <a:ext cx="1600200" cy="5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3962520" y="3352680"/>
          <a:ext cx="1430280" cy="501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62520" y="3352680"/>
                    <a:ext cx="1430280" cy="5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5486400" y="3352680"/>
          <a:ext cx="1265400" cy="501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86400" y="3352680"/>
                    <a:ext cx="1265400" cy="5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3809880" y="3962520"/>
          <a:ext cx="1641600" cy="501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9880" y="3962520"/>
                    <a:ext cx="164160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5486400" y="3962520"/>
          <a:ext cx="1265400" cy="501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86400" y="3962520"/>
                    <a:ext cx="126540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4495680" y="4419720"/>
          <a:ext cx="927360" cy="501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495680" y="4419720"/>
                    <a:ext cx="92736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5791320" y="4419720"/>
          <a:ext cx="927000" cy="501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791320" y="4419720"/>
                    <a:ext cx="92700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3657600" y="495288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724280" y="5029200"/>
          <a:ext cx="709560" cy="533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724280" y="5029200"/>
                    <a:ext cx="7095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5486400" y="5029200"/>
          <a:ext cx="1341360" cy="5335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486400" y="5029200"/>
                    <a:ext cx="13413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4800600" y="55627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19920" y="55627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876920" y="5562720"/>
          <a:ext cx="441360" cy="5331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876920" y="5562720"/>
                    <a:ext cx="44136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6172200" y="5562720"/>
          <a:ext cx="441360" cy="5331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172200" y="5562720"/>
                    <a:ext cx="44136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4770360" y="6172200"/>
          <a:ext cx="681120" cy="6858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770360" y="6172200"/>
                    <a:ext cx="6811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5562720" y="6089760"/>
          <a:ext cx="1600200" cy="7682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562720" y="6089760"/>
                    <a:ext cx="1600200" cy="7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627200" y="1700280"/>
                <a:ext cx="263988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26" name=""/>
          <p:cNvGraphicFramePr/>
          <p:nvPr/>
        </p:nvGraphicFramePr>
        <p:xfrm>
          <a:off x="2209680" y="1776240"/>
          <a:ext cx="747720" cy="5972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209680" y="1776240"/>
                    <a:ext cx="74772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2057400" y="1243080"/>
          <a:ext cx="2136600" cy="5968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057400" y="1243080"/>
                    <a:ext cx="21366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609480" y="1295280"/>
          <a:ext cx="1040040" cy="59688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09480" y="1295280"/>
                    <a:ext cx="10400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5589720" y="1700280"/>
                <a:ext cx="214308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33" name=""/>
          <p:cNvGraphicFramePr/>
          <p:nvPr/>
        </p:nvGraphicFramePr>
        <p:xfrm>
          <a:off x="5867280" y="1828800"/>
          <a:ext cx="747720" cy="5968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5867280" y="1828800"/>
                    <a:ext cx="7477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6477120" y="1143000"/>
          <a:ext cx="745920" cy="59688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6477120" y="1143000"/>
                    <a:ext cx="7459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609480" y="4419720"/>
          <a:ext cx="2828880" cy="64584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609480" y="4419720"/>
                    <a:ext cx="2828880" cy="64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  <p:sndAc>
      <p:stSnd>
        <p:snd r:embed="rId41" name="highchime.wav"/>
      </p:stSnd>
    </p:sndAc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5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policesire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Baseball%20critical%20st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Baseball%20critical%20st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Baseball%20critical%20st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04920" y="30492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you have parallel l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2590920"/>
            <a:ext cx="335268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5257800" y="1905120"/>
            <a:ext cx="2666880" cy="22860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81680" y="2057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010280" y="25146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05520" y="3429000"/>
            <a:ext cx="34290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91320" y="28954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9920" y="34290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543800" y="2057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324480" y="25146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629400" y="28954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4120" y="34290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3200400"/>
            <a:ext cx="3505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Alternate Interior ang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4920" y="175248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Corresponding ang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86400" y="3049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ut by a </a:t>
            </a: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transver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83808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ight angles are form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10280" y="25146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19920" y="34290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2286000"/>
            <a:ext cx="167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8 and 4,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91320" y="28954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81680" y="205596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57400" y="2286000"/>
            <a:ext cx="1676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5 and 1,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629400" y="28954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543800" y="2057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2666880"/>
            <a:ext cx="167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6 and 2,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4120" y="34290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324480" y="25146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57400" y="26668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7 and 3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91320" y="289404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10280" y="25146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4191120"/>
            <a:ext cx="167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Times New Roman"/>
              </a:rPr>
              <a:t>5 and 4,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629400" y="28954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327720" y="251316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057400" y="41911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Times New Roman"/>
              </a:rPr>
              <a:t>6 and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89720" y="3425760"/>
            <a:ext cx="1287360" cy="476280"/>
          </a:xfrm>
          <a:custGeom>
            <a:avLst/>
            <a:gdLst/>
            <a:ahLst/>
            <a:rect l="l" t="t" r="r" b="b"/>
            <a:pathLst>
              <a:path w="811" h="300">
                <a:moveTo>
                  <a:pt x="0" y="300"/>
                </a:moveTo>
                <a:lnTo>
                  <a:pt x="349" y="0"/>
                </a:lnTo>
                <a:lnTo>
                  <a:pt x="811" y="0"/>
                </a:lnTo>
              </a:path>
            </a:pathLst>
          </a:custGeom>
          <a:noFill/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/>
          <p:nvPr/>
        </p:nvCxnSpPr>
        <p:spPr>
          <a:xfrm flipH="1" flipV="1" rot="5400000">
            <a:off x="6053760" y="3267360"/>
            <a:ext cx="221400" cy="610560"/>
          </a:xfrm>
          <a:prstGeom prst="curvedConnector5">
            <a:avLst>
              <a:gd name="adj1" fmla="val -22149"/>
              <a:gd name="adj2" fmla="val 49970"/>
              <a:gd name="adj3" fmla="val -22149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175" name=""/>
          <p:cNvSpPr/>
          <p:nvPr/>
        </p:nvSpPr>
        <p:spPr>
          <a:xfrm>
            <a:off x="6568920" y="2592360"/>
            <a:ext cx="1287720" cy="476280"/>
          </a:xfrm>
          <a:custGeom>
            <a:avLst/>
            <a:gdLst/>
            <a:ahLst/>
            <a:rect l="l" t="t" r="r" b="b"/>
            <a:pathLst>
              <a:path w="811" h="300">
                <a:moveTo>
                  <a:pt x="0" y="300"/>
                </a:moveTo>
                <a:lnTo>
                  <a:pt x="349" y="0"/>
                </a:lnTo>
                <a:lnTo>
                  <a:pt x="811" y="0"/>
                </a:lnTo>
              </a:path>
            </a:pathLst>
          </a:custGeom>
          <a:noFill/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"/>
          <p:cNvCxnSpPr/>
          <p:nvPr/>
        </p:nvCxnSpPr>
        <p:spPr>
          <a:xfrm flipH="1" flipV="1" rot="5400000">
            <a:off x="7032240" y="2433960"/>
            <a:ext cx="221040" cy="610200"/>
          </a:xfrm>
          <a:prstGeom prst="curvedConnector5">
            <a:avLst>
              <a:gd name="adj1" fmla="val -22185"/>
              <a:gd name="adj2" fmla="val 50000"/>
              <a:gd name="adj3" fmla="val -22185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 rot="10800000">
            <a:off x="5424480" y="2939760"/>
            <a:ext cx="1287360" cy="476280"/>
          </a:xfrm>
          <a:custGeom>
            <a:avLst/>
            <a:gdLst/>
            <a:ahLst/>
            <a:rect l="l" t="t" r="r" b="b"/>
            <a:pathLst>
              <a:path w="811" h="300">
                <a:moveTo>
                  <a:pt x="0" y="300"/>
                </a:moveTo>
                <a:lnTo>
                  <a:pt x="349" y="0"/>
                </a:lnTo>
                <a:lnTo>
                  <a:pt x="811" y="0"/>
                </a:lnTo>
              </a:path>
            </a:pathLst>
          </a:custGeom>
          <a:noFill/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"/>
          <p:cNvCxnSpPr/>
          <p:nvPr/>
        </p:nvCxnSpPr>
        <p:spPr>
          <a:xfrm flipH="1" flipV="1" rot="5400000">
            <a:off x="5913000" y="2899800"/>
            <a:ext cx="254880" cy="734400"/>
          </a:xfrm>
          <a:prstGeom prst="curvedConnector5">
            <a:avLst>
              <a:gd name="adj1" fmla="val 132390"/>
              <a:gd name="adj2" fmla="val 49975"/>
              <a:gd name="adj3" fmla="val 13239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179" name=""/>
          <p:cNvSpPr/>
          <p:nvPr/>
        </p:nvSpPr>
        <p:spPr>
          <a:xfrm rot="10800000">
            <a:off x="6389640" y="2118960"/>
            <a:ext cx="1287360" cy="476280"/>
          </a:xfrm>
          <a:custGeom>
            <a:avLst/>
            <a:gdLst/>
            <a:ahLst/>
            <a:rect l="l" t="t" r="r" b="b"/>
            <a:pathLst>
              <a:path w="811" h="300">
                <a:moveTo>
                  <a:pt x="0" y="300"/>
                </a:moveTo>
                <a:lnTo>
                  <a:pt x="349" y="0"/>
                </a:lnTo>
                <a:lnTo>
                  <a:pt x="811" y="0"/>
                </a:lnTo>
              </a:path>
            </a:pathLst>
          </a:custGeom>
          <a:noFill/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" name=""/>
          <p:cNvCxnSpPr/>
          <p:nvPr/>
        </p:nvCxnSpPr>
        <p:spPr>
          <a:xfrm flipH="1" flipV="1" rot="5400000">
            <a:off x="6878520" y="2079000"/>
            <a:ext cx="254520" cy="734400"/>
          </a:xfrm>
          <a:prstGeom prst="curvedConnector5">
            <a:avLst>
              <a:gd name="adj1" fmla="val 132436"/>
              <a:gd name="adj2" fmla="val 49975"/>
              <a:gd name="adj3" fmla="val 132436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181" name=""/>
          <p:cNvSpPr/>
          <p:nvPr/>
        </p:nvSpPr>
        <p:spPr>
          <a:xfrm>
            <a:off x="6145200" y="3063960"/>
            <a:ext cx="746280" cy="360360"/>
          </a:xfrm>
          <a:custGeom>
            <a:avLst/>
            <a:gdLst/>
            <a:ahLst/>
            <a:rect l="l" t="t" r="r" b="b"/>
            <a:pathLst>
              <a:path w="470" h="227">
                <a:moveTo>
                  <a:pt x="470" y="227"/>
                </a:moveTo>
                <a:lnTo>
                  <a:pt x="0" y="227"/>
                </a:lnTo>
                <a:lnTo>
                  <a:pt x="275" y="0"/>
                </a:lnTo>
              </a:path>
            </a:pathLst>
          </a:custGeom>
          <a:noFill/>
          <a:ln w="57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"/>
          <p:cNvCxnSpPr/>
          <p:nvPr/>
        </p:nvCxnSpPr>
        <p:spPr>
          <a:xfrm flipH="1" flipV="1">
            <a:off x="6451200" y="3177360"/>
            <a:ext cx="192960" cy="250200"/>
          </a:xfrm>
          <a:prstGeom prst="curvedConnector5">
            <a:avLst>
              <a:gd name="adj1" fmla="val -28037"/>
              <a:gd name="adj2" fmla="val 51585"/>
              <a:gd name="adj3" fmla="val -28037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183" name=""/>
          <p:cNvSpPr/>
          <p:nvPr/>
        </p:nvSpPr>
        <p:spPr>
          <a:xfrm>
            <a:off x="7121520" y="2227320"/>
            <a:ext cx="746280" cy="360360"/>
          </a:xfrm>
          <a:custGeom>
            <a:avLst/>
            <a:gdLst/>
            <a:ahLst/>
            <a:rect l="l" t="t" r="r" b="b"/>
            <a:pathLst>
              <a:path w="470" h="227">
                <a:moveTo>
                  <a:pt x="470" y="227"/>
                </a:moveTo>
                <a:lnTo>
                  <a:pt x="0" y="227"/>
                </a:lnTo>
                <a:lnTo>
                  <a:pt x="275" y="0"/>
                </a:lnTo>
              </a:path>
            </a:pathLst>
          </a:custGeom>
          <a:noFill/>
          <a:ln w="57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"/>
          <p:cNvCxnSpPr/>
          <p:nvPr/>
        </p:nvCxnSpPr>
        <p:spPr>
          <a:xfrm flipH="1" flipV="1">
            <a:off x="7416360" y="2340720"/>
            <a:ext cx="192960" cy="250200"/>
          </a:xfrm>
          <a:prstGeom prst="curvedConnector5">
            <a:avLst>
              <a:gd name="adj1" fmla="val -28037"/>
              <a:gd name="adj2" fmla="val 51585"/>
              <a:gd name="adj3" fmla="val -28037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185" name=""/>
          <p:cNvSpPr/>
          <p:nvPr/>
        </p:nvSpPr>
        <p:spPr>
          <a:xfrm rot="10800000">
            <a:off x="5397120" y="3422160"/>
            <a:ext cx="746280" cy="360360"/>
          </a:xfrm>
          <a:custGeom>
            <a:avLst/>
            <a:gdLst/>
            <a:ahLst/>
            <a:rect l="l" t="t" r="r" b="b"/>
            <a:pathLst>
              <a:path w="470" h="227">
                <a:moveTo>
                  <a:pt x="470" y="227"/>
                </a:moveTo>
                <a:lnTo>
                  <a:pt x="0" y="227"/>
                </a:lnTo>
                <a:lnTo>
                  <a:pt x="275" y="0"/>
                </a:lnTo>
              </a:path>
            </a:pathLst>
          </a:custGeom>
          <a:noFill/>
          <a:ln w="57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"/>
          <p:cNvCxnSpPr/>
          <p:nvPr/>
        </p:nvCxnSpPr>
        <p:spPr>
          <a:xfrm flipH="1" rot="16200000">
            <a:off x="5569560" y="3459960"/>
            <a:ext cx="317880" cy="199080"/>
          </a:xfrm>
          <a:prstGeom prst="curvedConnector5">
            <a:avLst>
              <a:gd name="adj1" fmla="val 86507"/>
              <a:gd name="adj2" fmla="val 20652"/>
              <a:gd name="adj3" fmla="val 86507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187" name=""/>
          <p:cNvSpPr/>
          <p:nvPr/>
        </p:nvSpPr>
        <p:spPr>
          <a:xfrm rot="10800000">
            <a:off x="6381360" y="2596680"/>
            <a:ext cx="746280" cy="360360"/>
          </a:xfrm>
          <a:custGeom>
            <a:avLst/>
            <a:gdLst/>
            <a:ahLst/>
            <a:rect l="l" t="t" r="r" b="b"/>
            <a:pathLst>
              <a:path w="470" h="227">
                <a:moveTo>
                  <a:pt x="470" y="227"/>
                </a:moveTo>
                <a:lnTo>
                  <a:pt x="0" y="227"/>
                </a:lnTo>
                <a:lnTo>
                  <a:pt x="275" y="0"/>
                </a:lnTo>
              </a:path>
            </a:pathLst>
          </a:custGeom>
          <a:noFill/>
          <a:ln w="57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rot="16200000">
            <a:off x="6553800" y="2634480"/>
            <a:ext cx="317880" cy="199080"/>
          </a:xfrm>
          <a:prstGeom prst="curvedConnector5">
            <a:avLst>
              <a:gd name="adj1" fmla="val 86507"/>
              <a:gd name="adj2" fmla="val 20652"/>
              <a:gd name="adj3" fmla="val 86507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189" name=""/>
          <p:cNvSpPr/>
          <p:nvPr/>
        </p:nvSpPr>
        <p:spPr>
          <a:xfrm rot="10800000">
            <a:off x="5423040" y="2937960"/>
            <a:ext cx="1287360" cy="476280"/>
          </a:xfrm>
          <a:custGeom>
            <a:avLst/>
            <a:gdLst/>
            <a:ahLst/>
            <a:rect l="l" t="t" r="r" b="b"/>
            <a:pathLst>
              <a:path w="811" h="300">
                <a:moveTo>
                  <a:pt x="0" y="300"/>
                </a:moveTo>
                <a:lnTo>
                  <a:pt x="349" y="0"/>
                </a:lnTo>
                <a:lnTo>
                  <a:pt x="811" y="0"/>
                </a:lnTo>
              </a:path>
            </a:pathLst>
          </a:custGeom>
          <a:noFill/>
          <a:ln w="57240">
            <a:solidFill>
              <a:srgbClr val="66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" name=""/>
          <p:cNvCxnSpPr/>
          <p:nvPr/>
        </p:nvCxnSpPr>
        <p:spPr>
          <a:xfrm flipH="1" flipV="1" rot="5400000">
            <a:off x="5911200" y="2898360"/>
            <a:ext cx="254880" cy="734040"/>
          </a:xfrm>
          <a:prstGeom prst="curvedConnector5">
            <a:avLst>
              <a:gd name="adj1" fmla="val 132390"/>
              <a:gd name="adj2" fmla="val 50000"/>
              <a:gd name="adj3" fmla="val 13239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>
            <a:off x="6566040" y="2590920"/>
            <a:ext cx="1287360" cy="476280"/>
          </a:xfrm>
          <a:custGeom>
            <a:avLst/>
            <a:gdLst/>
            <a:ahLst/>
            <a:rect l="l" t="t" r="r" b="b"/>
            <a:pathLst>
              <a:path w="811" h="300">
                <a:moveTo>
                  <a:pt x="0" y="300"/>
                </a:moveTo>
                <a:lnTo>
                  <a:pt x="349" y="0"/>
                </a:lnTo>
                <a:lnTo>
                  <a:pt x="811" y="0"/>
                </a:lnTo>
              </a:path>
            </a:pathLst>
          </a:custGeom>
          <a:noFill/>
          <a:ln w="57240">
            <a:solidFill>
              <a:srgbClr val="66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"/>
          <p:cNvCxnSpPr/>
          <p:nvPr/>
        </p:nvCxnSpPr>
        <p:spPr>
          <a:xfrm flipH="1" flipV="1" rot="5400000">
            <a:off x="7030080" y="2432160"/>
            <a:ext cx="221400" cy="610560"/>
          </a:xfrm>
          <a:prstGeom prst="curvedConnector5">
            <a:avLst>
              <a:gd name="adj1" fmla="val -22149"/>
              <a:gd name="adj2" fmla="val 49970"/>
              <a:gd name="adj3" fmla="val -22149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193" name=""/>
          <p:cNvSpPr/>
          <p:nvPr/>
        </p:nvSpPr>
        <p:spPr>
          <a:xfrm>
            <a:off x="6167520" y="3062160"/>
            <a:ext cx="745920" cy="360360"/>
          </a:xfrm>
          <a:custGeom>
            <a:avLst/>
            <a:gdLst/>
            <a:ahLst/>
            <a:rect l="l" t="t" r="r" b="b"/>
            <a:pathLst>
              <a:path w="470" h="227">
                <a:moveTo>
                  <a:pt x="470" y="227"/>
                </a:moveTo>
                <a:lnTo>
                  <a:pt x="0" y="227"/>
                </a:lnTo>
                <a:lnTo>
                  <a:pt x="275" y="0"/>
                </a:lnTo>
              </a:path>
            </a:pathLst>
          </a:custGeom>
          <a:noFill/>
          <a:ln w="57240">
            <a:solidFill>
              <a:srgbClr val="66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" name=""/>
          <p:cNvCxnSpPr/>
          <p:nvPr/>
        </p:nvCxnSpPr>
        <p:spPr>
          <a:xfrm flipH="1" flipV="1">
            <a:off x="6473160" y="3176280"/>
            <a:ext cx="192600" cy="249840"/>
          </a:xfrm>
          <a:prstGeom prst="curvedConnector5">
            <a:avLst>
              <a:gd name="adj1" fmla="val -28089"/>
              <a:gd name="adj2" fmla="val 51515"/>
              <a:gd name="adj3" fmla="val -28089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 rot="10800000">
            <a:off x="6391440" y="2593440"/>
            <a:ext cx="745920" cy="360360"/>
          </a:xfrm>
          <a:custGeom>
            <a:avLst/>
            <a:gdLst/>
            <a:ahLst/>
            <a:rect l="l" t="t" r="r" b="b"/>
            <a:pathLst>
              <a:path w="470" h="227">
                <a:moveTo>
                  <a:pt x="470" y="227"/>
                </a:moveTo>
                <a:lnTo>
                  <a:pt x="0" y="227"/>
                </a:lnTo>
                <a:lnTo>
                  <a:pt x="275" y="0"/>
                </a:lnTo>
              </a:path>
            </a:pathLst>
          </a:custGeom>
          <a:noFill/>
          <a:ln w="57240">
            <a:solidFill>
              <a:srgbClr val="66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" name=""/>
          <p:cNvCxnSpPr/>
          <p:nvPr/>
        </p:nvCxnSpPr>
        <p:spPr>
          <a:xfrm flipH="1" rot="16200000">
            <a:off x="6563520" y="2630880"/>
            <a:ext cx="317880" cy="199440"/>
          </a:xfrm>
          <a:prstGeom prst="curvedConnector5">
            <a:avLst>
              <a:gd name="adj1" fmla="val 86507"/>
              <a:gd name="adj2" fmla="val 20795"/>
              <a:gd name="adj3" fmla="val 86507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3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500"/>
                            </p:stCondLst>
                            <p:childTnLst>
                              <p:par>
                                <p:cTn id="40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000"/>
                            </p:stCondLst>
                            <p:childTnLst>
                              <p:par>
                                <p:cTn id="41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5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3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4700"/>
                            </p:stCondLst>
                            <p:childTnLst>
                              <p:par>
                                <p:cTn id="42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2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200"/>
                            </p:stCondLst>
                            <p:childTnLst>
                              <p:par>
                                <p:cTn id="42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3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7700"/>
                            </p:stCondLst>
                            <p:childTnLst>
                              <p:par>
                                <p:cTn id="4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75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7775"/>
                            </p:stCondLst>
                            <p:childTnLst>
                              <p:par>
                                <p:cTn id="4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75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785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75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7925"/>
                            </p:stCondLst>
                            <p:childTnLst>
                              <p:par>
                                <p:cTn id="4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75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8000"/>
                            </p:stCondLst>
                            <p:childTnLst>
                              <p:par>
                                <p:cTn id="4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75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8074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75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8150"/>
                            </p:stCondLst>
                            <p:childTnLst>
                              <p:par>
                                <p:cTn id="4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75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8225"/>
                            </p:stCondLst>
                            <p:childTnLst>
                              <p:par>
                                <p:cTn id="4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75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75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75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" dur="75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75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75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75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75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75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75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75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75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75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3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3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75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75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6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6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3" dur="75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6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6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75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2" dur="75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6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6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" dur="75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6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6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04920" y="30492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you have parallel l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34120" y="2590920"/>
            <a:ext cx="335268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257800" y="1905120"/>
            <a:ext cx="2666880" cy="22860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05520" y="3429000"/>
            <a:ext cx="34290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29400" y="2895480"/>
            <a:ext cx="75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1752480"/>
            <a:ext cx="4724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When one angle measure is given, the rest are easy to fi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486400" y="3049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ut by a </a:t>
            </a: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transver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83808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ight angles are form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948280" y="2527200"/>
            <a:ext cx="97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7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61080" y="3417840"/>
            <a:ext cx="74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7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77000" y="2022480"/>
            <a:ext cx="12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7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915160" y="3581280"/>
            <a:ext cx="106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1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30720" y="2832120"/>
            <a:ext cx="122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1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251400" y="1859040"/>
            <a:ext cx="10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1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345440" y="2535120"/>
            <a:ext cx="104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1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" name=""/>
          <p:cNvCxnSpPr/>
          <p:nvPr/>
        </p:nvCxnSpPr>
        <p:spPr>
          <a:xfrm flipH="1" flipV="1" rot="5400000">
            <a:off x="7183080" y="2352960"/>
            <a:ext cx="221400" cy="610200"/>
          </a:xfrm>
          <a:prstGeom prst="curvedConnector5">
            <a:avLst>
              <a:gd name="adj1" fmla="val -22149"/>
              <a:gd name="adj2" fmla="val 50000"/>
              <a:gd name="adj3" fmla="val -22149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213" name=""/>
          <p:cNvCxnSpPr/>
          <p:nvPr/>
        </p:nvCxnSpPr>
        <p:spPr>
          <a:xfrm flipH="1" flipV="1" rot="5400000">
            <a:off x="6916680" y="2056680"/>
            <a:ext cx="254520" cy="734400"/>
          </a:xfrm>
          <a:prstGeom prst="curvedConnector5">
            <a:avLst>
              <a:gd name="adj1" fmla="val 132436"/>
              <a:gd name="adj2" fmla="val 49975"/>
              <a:gd name="adj3" fmla="val 132436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214" name=""/>
          <p:cNvCxnSpPr/>
          <p:nvPr/>
        </p:nvCxnSpPr>
        <p:spPr>
          <a:xfrm flipH="1" flipV="1" rot="5400000">
            <a:off x="5977800" y="2906280"/>
            <a:ext cx="254880" cy="734040"/>
          </a:xfrm>
          <a:prstGeom prst="curvedConnector5">
            <a:avLst>
              <a:gd name="adj1" fmla="val 132390"/>
              <a:gd name="adj2" fmla="val 50000"/>
              <a:gd name="adj3" fmla="val 13239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215" name=""/>
          <p:cNvCxnSpPr/>
          <p:nvPr/>
        </p:nvCxnSpPr>
        <p:spPr>
          <a:xfrm flipH="1" flipV="1">
            <a:off x="6451200" y="3177360"/>
            <a:ext cx="192960" cy="250200"/>
          </a:xfrm>
          <a:prstGeom prst="curvedConnector5">
            <a:avLst>
              <a:gd name="adj1" fmla="val -28037"/>
              <a:gd name="adj2" fmla="val 51585"/>
              <a:gd name="adj3" fmla="val -28037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216" name=""/>
          <p:cNvCxnSpPr/>
          <p:nvPr/>
        </p:nvCxnSpPr>
        <p:spPr>
          <a:xfrm flipH="1" flipV="1">
            <a:off x="7489440" y="2312640"/>
            <a:ext cx="192960" cy="249840"/>
          </a:xfrm>
          <a:prstGeom prst="curvedConnector5">
            <a:avLst>
              <a:gd name="adj1" fmla="val -28037"/>
              <a:gd name="adj2" fmla="val 51515"/>
              <a:gd name="adj3" fmla="val -28037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217" name=""/>
          <p:cNvCxnSpPr/>
          <p:nvPr/>
        </p:nvCxnSpPr>
        <p:spPr>
          <a:xfrm flipH="1" rot="16200000">
            <a:off x="6498360" y="2660400"/>
            <a:ext cx="317880" cy="199080"/>
          </a:xfrm>
          <a:prstGeom prst="curvedConnector5">
            <a:avLst>
              <a:gd name="adj1" fmla="val 86394"/>
              <a:gd name="adj2" fmla="val 20652"/>
              <a:gd name="adj3" fmla="val 86394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218" name=""/>
          <p:cNvCxnSpPr/>
          <p:nvPr/>
        </p:nvCxnSpPr>
        <p:spPr>
          <a:xfrm flipH="1" flipV="1" rot="5400000">
            <a:off x="6174360" y="3216240"/>
            <a:ext cx="221400" cy="610560"/>
          </a:xfrm>
          <a:prstGeom prst="curvedConnector5">
            <a:avLst>
              <a:gd name="adj1" fmla="val -22149"/>
              <a:gd name="adj2" fmla="val 49970"/>
              <a:gd name="adj3" fmla="val -22149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219" name=""/>
          <p:cNvCxnSpPr/>
          <p:nvPr/>
        </p:nvCxnSpPr>
        <p:spPr>
          <a:xfrm flipH="1" rot="16200000">
            <a:off x="5504400" y="3518640"/>
            <a:ext cx="317880" cy="199080"/>
          </a:xfrm>
          <a:prstGeom prst="curvedConnector5">
            <a:avLst>
              <a:gd name="adj1" fmla="val 86507"/>
              <a:gd name="adj2" fmla="val 20652"/>
              <a:gd name="adj3" fmla="val 86507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6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7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8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" dur="75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3" dur="75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1000"/>
                            </p:stCondLst>
                            <p:childTnLst>
                              <p:par>
                                <p:cTn id="6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0" dur="75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8" dur="75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500"/>
                            </p:stCondLst>
                            <p:childTnLst>
                              <p:par>
                                <p:cTn id="7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75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000"/>
                            </p:stCondLst>
                            <p:childTnLst>
                              <p:par>
                                <p:cTn id="7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2" dur="75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500"/>
                            </p:stCondLst>
                            <p:childTnLst>
                              <p:par>
                                <p:cTn id="7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75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457200" y="380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ind the value of each missing ang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04920" y="182880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If m&lt;6=60,              find the m&lt;3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3435480" y="1981080"/>
                <a:ext cx="819000" cy="71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5410080" y="3048120"/>
            <a:ext cx="335304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334120" y="2362320"/>
            <a:ext cx="2666880" cy="22860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58000" y="25146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86600" y="29718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181480" y="3886200"/>
            <a:ext cx="34290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867280" y="335268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5880" y="38862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0120" y="25146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400800" y="29718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705720" y="33526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10080" y="38862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4920" y="289548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If m&lt;5=130,              find the m&lt;2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2971800" y="2743200"/>
                <a:ext cx="247320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304920" y="388620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 If m&lt;3=75,              find the m&lt;2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3352680" y="4191120"/>
                <a:ext cx="77472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5638680" y="4495680"/>
            <a:ext cx="3505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alternate interior ang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334120" y="487692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vertical ang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04920" y="502920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 If m&lt;8=145,              find the m&lt;4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3352680" y="5257800"/>
                <a:ext cx="102708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5638680" y="4648320"/>
            <a:ext cx="3505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corresponding ang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3657600" y="3352680"/>
                <a:ext cx="773280" cy="71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7010280" y="3352680"/>
                <a:ext cx="609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5257800" y="3276720"/>
                <a:ext cx="746280" cy="52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5943600" y="3124080"/>
                <a:ext cx="53352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6400800" y="3962520"/>
                <a:ext cx="76212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5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48" name=""/>
          <p:cNvGrpSpPr/>
          <p:nvPr/>
        </p:nvGrpSpPr>
        <p:grpSpPr>
          <a:xfrm>
            <a:off x="6222960" y="3435480"/>
            <a:ext cx="609480" cy="457200"/>
            <a:chOff x="6222960" y="3435480"/>
            <a:chExt cx="609480" cy="457200"/>
          </a:xfrm>
        </p:grpSpPr>
        <p:sp>
          <p:nvSpPr>
            <p:cNvPr id="249" name=""/>
            <p:cNvSpPr/>
            <p:nvPr/>
          </p:nvSpPr>
          <p:spPr>
            <a:xfrm flipH="1">
              <a:off x="6222960" y="3435480"/>
              <a:ext cx="533520" cy="457200"/>
            </a:xfrm>
            <a:prstGeom prst="line">
              <a:avLst/>
            </a:prstGeom>
            <a:ln w="572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222960" y="3892680"/>
              <a:ext cx="609480" cy="0"/>
            </a:xfrm>
            <a:prstGeom prst="line">
              <a:avLst/>
            </a:prstGeom>
            <a:ln w="572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6607440" y="3041640"/>
            <a:ext cx="609480" cy="457200"/>
            <a:chOff x="6607440" y="3041640"/>
            <a:chExt cx="609480" cy="457200"/>
          </a:xfrm>
        </p:grpSpPr>
        <p:sp>
          <p:nvSpPr>
            <p:cNvPr id="252" name=""/>
            <p:cNvSpPr/>
            <p:nvPr/>
          </p:nvSpPr>
          <p:spPr>
            <a:xfrm flipV="1">
              <a:off x="6683400" y="3041640"/>
              <a:ext cx="533520" cy="457200"/>
            </a:xfrm>
            <a:prstGeom prst="line">
              <a:avLst/>
            </a:prstGeom>
            <a:ln w="5724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6607440" y="3041640"/>
              <a:ext cx="609480" cy="0"/>
            </a:xfrm>
            <a:prstGeom prst="line">
              <a:avLst/>
            </a:prstGeom>
            <a:ln w="5724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 rot="10800000">
            <a:off x="5484960" y="3412800"/>
            <a:ext cx="1287360" cy="476280"/>
          </a:xfrm>
          <a:custGeom>
            <a:avLst/>
            <a:gdLst/>
            <a:ahLst/>
            <a:rect l="l" t="t" r="r" b="b"/>
            <a:pathLst>
              <a:path w="811" h="300">
                <a:moveTo>
                  <a:pt x="0" y="300"/>
                </a:moveTo>
                <a:lnTo>
                  <a:pt x="349" y="0"/>
                </a:lnTo>
                <a:lnTo>
                  <a:pt x="811" y="0"/>
                </a:lnTo>
              </a:path>
            </a:pathLst>
          </a:custGeom>
          <a:noFill/>
          <a:ln w="57240">
            <a:solidFill>
              <a:srgbClr val="66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197840" y="2689200"/>
            <a:ext cx="745920" cy="360360"/>
          </a:xfrm>
          <a:custGeom>
            <a:avLst/>
            <a:gdLst/>
            <a:ahLst/>
            <a:rect l="l" t="t" r="r" b="b"/>
            <a:pathLst>
              <a:path w="470" h="227">
                <a:moveTo>
                  <a:pt x="470" y="227"/>
                </a:moveTo>
                <a:lnTo>
                  <a:pt x="0" y="227"/>
                </a:lnTo>
                <a:lnTo>
                  <a:pt x="275" y="0"/>
                </a:lnTo>
              </a:path>
            </a:pathLst>
          </a:custGeom>
          <a:noFill/>
          <a:ln w="57240">
            <a:solidFill>
              <a:srgbClr val="66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6604200" y="3029040"/>
            <a:ext cx="609480" cy="457200"/>
            <a:chOff x="6604200" y="3029040"/>
            <a:chExt cx="609480" cy="457200"/>
          </a:xfrm>
        </p:grpSpPr>
        <p:sp>
          <p:nvSpPr>
            <p:cNvPr id="257" name=""/>
            <p:cNvSpPr/>
            <p:nvPr/>
          </p:nvSpPr>
          <p:spPr>
            <a:xfrm flipV="1">
              <a:off x="6680160" y="3029040"/>
              <a:ext cx="533520" cy="45720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6604200" y="3029040"/>
              <a:ext cx="60948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7196040" y="2687760"/>
            <a:ext cx="746280" cy="360360"/>
          </a:xfrm>
          <a:custGeom>
            <a:avLst/>
            <a:gdLst/>
            <a:ahLst/>
            <a:rect l="l" t="t" r="r" b="b"/>
            <a:pathLst>
              <a:path w="470" h="227">
                <a:moveTo>
                  <a:pt x="470" y="227"/>
                </a:moveTo>
                <a:lnTo>
                  <a:pt x="0" y="227"/>
                </a:lnTo>
                <a:lnTo>
                  <a:pt x="275" y="0"/>
                </a:lnTo>
              </a:path>
            </a:pathLst>
          </a:custGeom>
          <a:noFill/>
          <a:ln w="57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64240" y="3889440"/>
            <a:ext cx="1287360" cy="476280"/>
          </a:xfrm>
          <a:custGeom>
            <a:avLst/>
            <a:gdLst/>
            <a:ahLst/>
            <a:rect l="l" t="t" r="r" b="b"/>
            <a:pathLst>
              <a:path w="811" h="300">
                <a:moveTo>
                  <a:pt x="0" y="300"/>
                </a:moveTo>
                <a:lnTo>
                  <a:pt x="349" y="0"/>
                </a:lnTo>
                <a:lnTo>
                  <a:pt x="811" y="0"/>
                </a:lnTo>
              </a:path>
            </a:pathLst>
          </a:custGeom>
          <a:noFill/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653160" y="3040200"/>
            <a:ext cx="1287360" cy="476280"/>
          </a:xfrm>
          <a:custGeom>
            <a:avLst/>
            <a:gdLst/>
            <a:ahLst/>
            <a:rect l="l" t="t" r="r" b="b"/>
            <a:pathLst>
              <a:path w="811" h="300">
                <a:moveTo>
                  <a:pt x="0" y="300"/>
                </a:moveTo>
                <a:lnTo>
                  <a:pt x="349" y="0"/>
                </a:lnTo>
                <a:lnTo>
                  <a:pt x="811" y="0"/>
                </a:lnTo>
              </a:path>
            </a:pathLst>
          </a:custGeom>
          <a:noFill/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75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75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2325"/>
                            </p:stCondLst>
                            <p:childTnLst>
                              <p:par>
                                <p:cTn id="73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4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2825"/>
                            </p:stCondLst>
                            <p:childTnLst>
                              <p:par>
                                <p:cTn id="74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4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3325"/>
                            </p:stCondLst>
                            <p:childTnLst>
                              <p:par>
                                <p:cTn id="74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4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3825"/>
                            </p:stCondLst>
                            <p:childTnLst>
                              <p:par>
                                <p:cTn id="7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3" dur="75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3900"/>
                            </p:stCondLst>
                            <p:childTnLst>
                              <p:par>
                                <p:cTn id="7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7" dur="75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3975"/>
                            </p:stCondLst>
                            <p:childTnLst>
                              <p:par>
                                <p:cTn id="7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1" dur="75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4050"/>
                            </p:stCondLst>
                            <p:childTnLst>
                              <p:par>
                                <p:cTn id="7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5" dur="75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4125"/>
                            </p:stCondLst>
                            <p:childTnLst>
                              <p:par>
                                <p:cTn id="7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9" dur="75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4200"/>
                            </p:stCondLst>
                            <p:childTnLst>
                              <p:par>
                                <p:cTn id="7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75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4275"/>
                            </p:stCondLst>
                            <p:childTnLst>
                              <p:par>
                                <p:cTn id="7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7" dur="75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4350"/>
                            </p:stCondLst>
                            <p:childTnLst>
                              <p:par>
                                <p:cTn id="7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1" dur="75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6" dur="75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3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7" dur="75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6" dur="75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7" dur="75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3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3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7T10:59:30Z</dcterms:created>
  <dc:creator>CCSS</dc:creator>
  <dc:description/>
  <dc:language>en-US</dc:language>
  <cp:lastModifiedBy>damon.skelton</cp:lastModifiedBy>
  <dcterms:modified xsi:type="dcterms:W3CDTF">2005-03-29T18:06:05Z</dcterms:modified>
  <cp:revision>31</cp:revision>
  <dc:subject/>
  <dc:title>No Slide Title</dc:title>
</cp:coreProperties>
</file>